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4CE93-4CCB-413C-B76B-5F5F14E5C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6F35-1ABC-4552-BDBD-71790121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86980-BFCE-43A6-A8FB-DF3C2D647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D323B-6B90-4233-90F8-39B666896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EB53-7F0D-4CD6-8ED1-AE05BD05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B6474-7E56-400A-AB9F-209F4D19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5A54-6C7E-4B95-A4A4-828075AB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925A3-7D95-4568-91F4-1D835E1EE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0B65F-2362-40E2-95E6-813D1E8A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B6F38-8DA6-4482-99E2-48B47D07A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2D37-0813-4D45-9848-9675C943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3ABA-4451-4DF6-9031-A254C13CC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D922-16C6-4C7C-B114-D98EFD23DFC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ourism In An LEDC</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81000"/>
            <a:ext cx="6400800" cy="10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Game Parks In Keny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ame Park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ny developing countries tourism is seen to be the answer to their economic proble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velopment of air travel has meant that many more people now have the opportunity to go to places such as Kenya and Tanzan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encouraged tourists to see their beautiful natural areas, in particular the big game par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as increasing numbers of people flood into places like Kenya, they are finding that tourism brings with it a range of environmental, cultural and social probl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 Go?</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nya is attractive to foreign travellers as it provides them with an opportunity to experience different cultures and natural surrounding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eople have grown tired of the overcrowded Mediterranean resorts, instead favouring a more exotic holiday that, until a few years ago, would have been out of most peoples budg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ttraction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fari parks, with the chance to see animals such as lion, leopard and eleph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nce to experience the culture of the tribes of Kenya, such as the Mas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dian Ocean coast offers fabulous beaches, a tropical climate, and some of the best scuba diving in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vely safe place for tourists to tra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dvantages</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crease in tourism has led to economic growth and the creation of many jobs for local peo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lux of foreign money has helped to pay for much-needed developments throughout the country (although primarily in the main tourist area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have included improving roads, the airports and the water supp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most people travelling to Kenya go there to look at the animals on safari, the Government were forced to protect the natural environment by designating many areas as National Par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uge numbers of visitors is damaging the coral reefs and safari pa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hicles in the parks are causing soil erosion, whilst boats and divers themselves can damage the fragile coral very easi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ildlife of the National Parks is constantly being disturbed by the throngs of tourists descending upon them to take their photos before heading off ag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sai and other farmers have found that their land is now part of a National Park and therefore cannot be farm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caused them great problems, and pushed them into joining the tourist indu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y people feel that by putting on "cultural shows" for the tourists they are actually destroying their own culture, as the visitors look upon it as some kind of freak sh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assive tourist developments on the Indian Ocean coastline have caused an increase in house prices in the area, meaning that the locals are priced out of the marke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ch of the new infrastructure developments have been completed primarily for the tourists, and do not really benefit the local community as much as some other projects might have don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large percentage of the money earned by tourism in the country goes back to the tour operators and large hotel chains, which are based in countries like the United States and Great Britai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0:57:06Z</dcterms:created>
  <dc:creator>Dell_02</dc:creator>
  <dc:description/>
  <dc:language>en-US</dc:language>
  <cp:lastModifiedBy>Dell_02</cp:lastModifiedBy>
  <dcterms:modified xsi:type="dcterms:W3CDTF">2011-01-27T01:06:33Z</dcterms:modified>
  <cp:revision>1</cp:revision>
  <dc:subject/>
  <dc:title>Tourism In An LEDC</dc:title>
</cp:coreProperties>
</file>